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79F-1266-4D89-B118-B26F14DD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07F-E745-4C88-939B-C381280B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00B-3B3B-45D5-AE10-4A5DD999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941-7EB3-415C-978B-C1490130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DB5-DAFA-4291-8187-9A8E679B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100-99BD-4DFE-B2B9-86CE7711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7FB-C647-4470-A3CD-49EFEABC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5A0-280E-4110-9AAD-F664903E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E2F-11DE-4515-BE98-8DDDB86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745-1600-4422-BDCA-791E652B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10D-7FB5-488E-91A5-17F38926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0FF-591B-46E9-BB9F-7E53E79F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CBA8-0977-4E45-8788-56A8D5961996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20720"/>
            <a:ext cx="4510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M.S Data Provider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M.S D.Pr applic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og-ou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42100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0417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2995560"/>
            <a:ext cx="5832360" cy="395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4520" y="4083120"/>
            <a:ext cx="363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4520" y="2498760"/>
            <a:ext cx="4105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cted ship call (pre-arriva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4520" y="3075120"/>
            <a:ext cx="3060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517920"/>
            <a:ext cx="583236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4520" y="3578400"/>
            <a:ext cx="4680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MAT notification prior to depart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54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560" y="2421000"/>
            <a:ext cx="1738440" cy="2160360"/>
            <a:chOff x="601560" y="2421000"/>
            <a:chExt cx="1738440" cy="2160360"/>
          </a:xfrm>
        </p:grpSpPr>
        <p:sp>
          <p:nvSpPr>
            <p:cNvPr id="58" name=""/>
            <p:cNvSpPr/>
            <p:nvPr/>
          </p:nvSpPr>
          <p:spPr>
            <a:xfrm>
              <a:off x="601560" y="2421000"/>
              <a:ext cx="1738440" cy="2160360"/>
            </a:xfrm>
            <a:prstGeom prst="flowChartAlternateProcess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560" y="2971800"/>
              <a:ext cx="17384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Verdana"/>
                </a:rPr>
                <a:t>Send/ update notification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760" y="1363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560" y="1620720"/>
            <a:ext cx="4799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Notify/ Update ship arriv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.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application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&gt;Notify/Update ship arriv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24720" y="5300640"/>
            <a:ext cx="7192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2995560"/>
            <a:ext cx="4140000" cy="395280"/>
          </a:xfrm>
          <a:prstGeom prst="flowChartAlternateProcess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203640" y="2421000"/>
            <a:ext cx="4140000" cy="397080"/>
            <a:chOff x="3203640" y="2421000"/>
            <a:chExt cx="4140000" cy="397080"/>
          </a:xfrm>
        </p:grpSpPr>
        <p:sp>
          <p:nvSpPr>
            <p:cNvPr id="66" name=""/>
            <p:cNvSpPr/>
            <p:nvPr/>
          </p:nvSpPr>
          <p:spPr>
            <a:xfrm>
              <a:off x="3203640" y="2421000"/>
              <a:ext cx="4140000" cy="395280"/>
            </a:xfrm>
            <a:prstGeom prst="flowChartAlternateProcess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3640" y="2541600"/>
              <a:ext cx="36367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tep 1: Select vess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203640" y="3116160"/>
            <a:ext cx="4464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ep 2: Insert/ Update Arrival Inform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70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74760" y="1498680"/>
            <a:ext cx="8364600" cy="4924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560" y="1620720"/>
            <a:ext cx="30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Select Vess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1089000"/>
            <a:ext cx="8269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 application&gt;Notify/update ship arrival&gt;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Step 1: Select vess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8040" y="204480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O Number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2680" y="202716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MSI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44720" y="20606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3280" y="203832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78040" y="23083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ll Sig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228924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ip Name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4720" y="232416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3280" y="2301840"/>
            <a:ext cx="1057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95760" y="261000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1560" y="3429000"/>
            <a:ext cx="7966080" cy="1608480"/>
            <a:chOff x="601560" y="3429000"/>
            <a:chExt cx="7966080" cy="1608480"/>
          </a:xfrm>
        </p:grpSpPr>
        <p:sp>
          <p:nvSpPr>
            <p:cNvPr id="87" name=""/>
            <p:cNvSpPr/>
            <p:nvPr/>
          </p:nvSpPr>
          <p:spPr>
            <a:xfrm>
              <a:off x="601560" y="3429000"/>
              <a:ext cx="160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      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Name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03560" y="3429000"/>
              <a:ext cx="8222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IMO Number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17880" y="3429000"/>
              <a:ext cx="954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MMSI  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97440" y="3429000"/>
              <a:ext cx="792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Ship   Call Sign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89440" y="3429000"/>
              <a:ext cx="92700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Las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16440" y="3429000"/>
              <a:ext cx="9082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ETA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4720" y="3429000"/>
              <a:ext cx="97164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A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6360" y="3429000"/>
              <a:ext cx="958680" cy="3985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urrent Call ATD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560" y="3825720"/>
              <a:ext cx="16020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O  </a:t>
              </a:r>
              <a:r>
                <a:rPr b="1" lang="en-US" sz="1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03560" y="382572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03884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17880" y="382572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5226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97440" y="382572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FGV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9440" y="382572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/3/2007 16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6440" y="382572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/7/2009 15: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24720" y="382572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96360" y="3825720"/>
              <a:ext cx="9712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560" y="423216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PALAC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03560" y="4232160"/>
              <a:ext cx="82224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481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17880" y="4232160"/>
              <a:ext cx="97956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39519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97440" y="4232160"/>
              <a:ext cx="79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WEW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9440" y="423216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/2/2006 15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6440" y="423216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9/7/2009 21: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4720" y="423216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96360" y="4232160"/>
              <a:ext cx="971280" cy="70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1560" y="4638600"/>
              <a:ext cx="1602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          </a:t>
              </a:r>
              <a:r>
                <a:rPr b="1" lang="en-US" sz="1000" spc="-1" strike="noStrike" u="sng">
                  <a:solidFill>
                    <a:srgbClr val="0099ff"/>
                  </a:solidFill>
                  <a:uFillTx/>
                  <a:latin typeface="Verdana"/>
                </a:rPr>
                <a:t>ICARUS  III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0600" y="4638600"/>
              <a:ext cx="8226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14541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05280" y="4638600"/>
              <a:ext cx="97920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123350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4480" y="4638600"/>
              <a:ext cx="79236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3WM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76840" y="4638600"/>
              <a:ext cx="92700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/7/2008 18:2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3840" y="4638600"/>
              <a:ext cx="87948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7:2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1760" y="4638600"/>
              <a:ext cx="971640" cy="398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/6/2009 08: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83400" y="4638600"/>
              <a:ext cx="9716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1560" y="5734080"/>
            <a:ext cx="826956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Verdana"/>
              </a:rPr>
              <a:t>3 vessels found, displaying 3 item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11720" y="2308320"/>
            <a:ext cx="50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CA*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616720" y="1600200"/>
            <a:ext cx="2687400" cy="246240"/>
            <a:chOff x="5616720" y="1600200"/>
            <a:chExt cx="2687400" cy="246240"/>
          </a:xfrm>
        </p:grpSpPr>
        <p:sp>
          <p:nvSpPr>
            <p:cNvPr id="122" name=""/>
            <p:cNvSpPr/>
            <p:nvPr/>
          </p:nvSpPr>
          <p:spPr>
            <a:xfrm>
              <a:off x="5616720" y="160020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94680" y="163188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29600" y="161280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908000" y="2610000"/>
            <a:ext cx="706680" cy="2462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arc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4760" y="1363680"/>
            <a:ext cx="8364600" cy="5160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560" y="162072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Verdana"/>
              </a:rPr>
              <a:t>Insert/ Update arrival inform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4760" y="1089000"/>
            <a:ext cx="82692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&gt;M.S D.Pr. application&gt;Notify/update ship arrival&gt;</a:t>
            </a:r>
            <a:r>
              <a:rPr b="1" lang="en-GB" sz="1200" spc="-1" strike="noStrike">
                <a:solidFill>
                  <a:srgbClr val="ff9933"/>
                </a:solidFill>
                <a:latin typeface="Verdana"/>
              </a:rPr>
              <a:t>Step 2: Insert/ Update arrival inform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5400" y="2044800"/>
            <a:ext cx="1106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allRef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3280" y="2038320"/>
            <a:ext cx="28447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49400" y="2044800"/>
            <a:ext cx="3186000" cy="246240"/>
            <a:chOff x="1049400" y="2044800"/>
            <a:chExt cx="3186000" cy="246240"/>
          </a:xfrm>
        </p:grpSpPr>
        <p:sp>
          <p:nvSpPr>
            <p:cNvPr id="132" name=""/>
            <p:cNvSpPr/>
            <p:nvPr/>
          </p:nvSpPr>
          <p:spPr>
            <a:xfrm>
              <a:off x="1049400" y="2044800"/>
              <a:ext cx="11062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essel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16080" y="2060640"/>
              <a:ext cx="211932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16080" y="2044800"/>
              <a:ext cx="202428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CARUS PALACE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74760" y="260028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s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86040" y="2631960"/>
            <a:ext cx="814320" cy="2095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040" y="2612880"/>
            <a:ext cx="8143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GRPI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760" y="2844720"/>
            <a:ext cx="1106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 las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86040" y="2860560"/>
            <a:ext cx="13078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6040" y="2828880"/>
            <a:ext cx="13078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0/7/2009 6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93920" y="2600280"/>
            <a:ext cx="5382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93920" y="2847960"/>
            <a:ext cx="674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49800" y="2631960"/>
            <a:ext cx="15829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ext Port (LOCODE)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49800" y="2847960"/>
            <a:ext cx="175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TA at Next Port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261936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261612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263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2876400"/>
            <a:ext cx="1308240" cy="20988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2589120"/>
            <a:ext cx="15145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19/7/2009 21: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5280" y="2851200"/>
            <a:ext cx="15145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1/7/2009 19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0600" y="3121200"/>
            <a:ext cx="151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xpected Position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3121200"/>
            <a:ext cx="43927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6240" y="2651040"/>
            <a:ext cx="4017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2638440"/>
            <a:ext cx="814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2647800"/>
            <a:ext cx="81432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BEAN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6240" y="2637000"/>
            <a:ext cx="33516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19760" y="28764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19760" y="2876400"/>
            <a:ext cx="145260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5/7/2009 11: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35280" y="3102120"/>
            <a:ext cx="4537080" cy="231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15 char subsidiary LOCODE or free text entry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3280" y="2019240"/>
            <a:ext cx="28447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&lt;to be inserted by the application&gt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200" y="3365640"/>
            <a:ext cx="7661160" cy="15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265640"/>
            <a:ext cx="1602000" cy="39852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xpected to anchorage?  (Y/N)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86856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ATA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74840" y="4255920"/>
            <a:ext cx="6732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74840" y="3868560"/>
            <a:ext cx="159372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9/7/2009 22: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6520" y="3538440"/>
            <a:ext cx="6581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16720" y="612936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tur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29600" y="4540320"/>
            <a:ext cx="51732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08720" y="6129360"/>
            <a:ext cx="7066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ubmi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560" y="5057640"/>
            <a:ext cx="40006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057640"/>
            <a:ext cx="36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firm/ Update persons on board info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02080"/>
            <a:ext cx="1589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rsons on board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3760" y="5292720"/>
            <a:ext cx="673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</a:rPr>
              <a:t>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06800" y="558324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7280" y="454032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27520" y="5583240"/>
            <a:ext cx="62388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av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2080" y="5057640"/>
            <a:ext cx="3500280" cy="827280"/>
          </a:xfrm>
          <a:prstGeom prst="flowChartAlternateProcess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05200" y="5057640"/>
            <a:ext cx="2819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pdate Hazmat Information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All ships arriving from a non EU port carrying dangerous goods)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52960" y="5546880"/>
            <a:ext cx="207504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Hazmat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651640" y="1498680"/>
            <a:ext cx="2687400" cy="246240"/>
            <a:chOff x="5651640" y="1498680"/>
            <a:chExt cx="2687400" cy="246240"/>
          </a:xfrm>
        </p:grpSpPr>
        <p:sp>
          <p:nvSpPr>
            <p:cNvPr id="181" name=""/>
            <p:cNvSpPr/>
            <p:nvPr/>
          </p:nvSpPr>
          <p:spPr>
            <a:xfrm>
              <a:off x="5651640" y="1498680"/>
              <a:ext cx="187308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rt of Call (LOCODE)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29600" y="1530360"/>
              <a:ext cx="1009440" cy="209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64520" y="1511280"/>
              <a:ext cx="830160" cy="23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BSOU</a:t>
              </a:r>
              <a:endParaRPr b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651640" y="2355840"/>
            <a:ext cx="2376360" cy="2462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pdate  Pre-arrival inform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0024400">
            <a:off x="3017520" y="4888080"/>
            <a:ext cx="1152360" cy="520560"/>
          </a:xfrm>
          <a:prstGeom prst="leftArrow">
            <a:avLst>
              <a:gd name="adj1" fmla="val 50000"/>
              <a:gd name="adj2" fmla="val 55342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6978000"/>
          </a:gra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27800" y="6129360"/>
            <a:ext cx="850680" cy="2156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int/ expor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6265800"/>
            <a:ext cx="28018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3300"/>
                </a:solidFill>
                <a:latin typeface="Verdana"/>
              </a:rPr>
              <a:t>* Mandatory field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4-15T17:19:25Z</dcterms:modified>
  <cp:revision>381</cp:revision>
  <dc:subject/>
  <dc:title>Slide 1</dc:title>
</cp:coreProperties>
</file>